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33D8-ED18-4BC4-A0E8-3A552B32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0194-89FC-4BB8-A817-B302BBC9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F33C4-6A06-4B3C-B4A3-122419F6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3B354-725F-4BE1-8AA3-08127145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3D96C-D3E6-484C-A73A-AA8D560F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61513-E3F7-4C8E-BED6-BE8C92D7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485F8-F114-4561-9133-842936E5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C48CA-A3C4-415C-A1AF-C7D2A468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15D22-6918-4697-BF4B-F917503F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148F0-5095-4872-8D7D-97B1804E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1DD3D-A09D-47FF-B7DA-931242EA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A5EAE-24B6-4F5E-BC36-97172CA6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FF74-F7A6-4F78-8E2B-4B116137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21662-6491-42AB-A12C-F700CF06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40A84-4B04-45F1-A62E-A1087DAB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65E86-E03C-4759-8F6B-4007B06A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672C8-78F1-4230-9CB6-2364B6CB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05D61-A18D-43AF-8B98-413B1480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39F82-3C6D-4565-83D3-72113133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6AD70-CCCB-42FF-8FA0-28CF843C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43941-5028-489F-8241-B5602DB5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14429-D140-4EE4-8230-F9A96AE9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962FA-622F-4BBC-8E3C-9D30DD9D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5A0B-E14B-4BBD-957F-BA912CD5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98BCF-EAAB-4F11-A2EC-1DEED070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DE524-5FFB-4C18-BDC1-C08F3877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7B885-6C64-4AF1-B398-F334EB69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952B6-6494-40A0-95DC-B05DF4DB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AA2EC-4583-4052-B804-7F2F1478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1C0DC-3452-4EC4-B3F3-DFABEA07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283CB-E560-48FF-AB0B-0F003416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4DC24-5084-40E3-B930-6BA51890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F014E-2F95-4CB1-AC74-BAB1E59D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D609C-07D4-4E39-8C69-B1E8FD75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2CB1-B394-4CEC-999D-BCA24CF5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404A7-30AE-479E-BBCF-251CAF3A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0F475-A739-465B-856C-73F66774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DB52F-FC2A-4FFC-8906-7BB8DA76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D092D-3620-4C43-9964-A453C857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54A77-F1DC-46D5-96A6-4F79F475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F175C-9782-49F7-A4BE-3071731C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49A81-072C-48DC-AE31-22E9F09B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5382A-BCDC-4384-9A65-E96BE3F7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4050F-A544-4FCD-AC5D-00E3AE3D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28FBE-DB78-4188-8B72-03D65EA9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8B27-F9F4-4FE3-885E-DA5F5589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9E212-9662-4097-B97A-73462D55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FFC7D-A8BE-4A35-9B65-4D57540B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F0989-7371-4DA8-B603-92D38C07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BB7C8-14CB-4465-97E0-B0EFB5F4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06AE9-E4D1-4F44-8C16-27F8FB4E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ADCAF5-CC13-4D2F-BD69-78B35CF1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44E385-5CC2-4A70-BFE2-0016CC9D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E98AB-ECF3-43D8-85D1-7C1AC5CC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E1BABA-FB1C-4721-BD3B-019C0705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F735EC-446F-446D-9B03-7F566A08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966F-C1B3-4D6E-A965-6BB9EBF6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8AF9C-4A1E-4C56-A963-0D2EC3B3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AD1D34-1CF2-4EFA-9700-B95E721C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D3EBA-0922-4FA0-94A5-354A6621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22286-0201-4989-97DC-32CD1317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987481-85DB-40FE-B527-C9ED870F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42885F-3E40-4705-8819-9FA67211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E32AF-6551-4BD4-B2AD-B5349CF5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DA5748-0295-42F9-9416-82D6D1CD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B83FAE-45D6-4E2C-BDB5-00D99314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0D0419-A140-4E0A-A855-3D7AF6B0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223B-04F4-40F1-8632-F9558813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4B7830-2EFF-40F4-8A21-62706865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6C9D97-C685-40F4-9736-4EF18A20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9853B8-79B5-42E0-BB87-578CAC72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3D0A2E-40A0-4EAD-9AB5-7BEC4086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61B627-3D9B-4CC1-BD91-65E23B8B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867A3D-48A1-425C-BF74-FC0D66A8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5AB8B9-99E8-4004-B390-1A45340D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0AF070-4ACF-49D3-B3EC-17F4C409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89B836-ADCE-4AE4-B9CE-195D59E9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47DE57-45A1-4BB4-BC88-BEA05026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C659-A372-4F82-80C4-9CEA17C7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B28131-6E01-423F-BCFA-FD7BF84F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B0956E-8F4B-4338-9DA4-AF9E0C55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21D95F-C8B0-4817-A6D9-841033E7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911E39-ABB3-4DF6-BA44-4491E8FF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5EB272-5B26-4A04-98F3-2D7AF3A2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787970-F8EE-4CB6-AF0C-3606F032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1B09E2-72AB-4686-BD74-7D7C9CD1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C09B51-BFE8-4D50-937C-C9233A4C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6F7E71-71FF-4F65-89EF-4380E27F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75AA5E-919E-4822-A6F6-3055407F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F9D7-514E-4D59-9742-27113BD7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CC46DE-1EDF-425F-9B60-6F6D1FBB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563DE2-D609-45D1-AB87-40F32299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C63FFE-7CD0-4983-BBC8-460BC036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78BBA4-3B34-4A51-8864-D1940AC1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F0ABD3-B176-429C-AFA5-71860234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A60575-0DA9-4A7D-9BEC-DAAC7DA1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CE750D-ABE6-42A2-AE1F-6BC1A2B1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EDD0E2-A425-4F12-81C9-0F6DFBA1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CA9A0E-9D8F-4C69-99E2-F3C849BB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F89809-04A5-4590-A27B-8FF8B330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D1B7-DFF6-4B23-A7D3-CB92FF76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1F9203-1AF7-482A-9534-9C8550EC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6F6E75-DC3E-4FBE-9B83-B8D299D0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7ACB2D-834E-44EE-9C8D-8C0CC1C0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F64B91-EB9E-4D16-AA9B-CD12C64C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938C5C-A206-4548-87F2-4E2CC1E0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4F9784-CE88-4EFF-B85F-94495593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F36109-F7DA-4D54-9B57-17F3125B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E23379-7E4A-49F4-8436-FE8A8B22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328D95-B263-4EFF-BB90-54D5D4BC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9F15A3-BD07-4C79-98DA-79BC9511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1606-7B17-4F28-93BC-5ED925EE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3D18-88D5-41FF-BB0C-E93DCAEC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AD55F4-CCD5-47D1-B7E6-71D7D4E3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9720C1-3228-4035-88C1-2ABD3F39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90645F-60FD-4F8C-83FD-544576A0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867AE2-FC14-4EB6-9F64-F5304459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A9491C-B60D-4508-8D7C-866A0A2A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D91E6C-A653-42D6-BA95-FF714157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DE7656-5DE2-48FF-9564-25F065D6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BCEFDF-F4AD-4DF1-A4AE-18551A34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6BB2B3-1B86-46A4-9C96-98719F12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2559D8-1630-49AB-B3AC-CEB993AE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4932-0A59-4323-993D-FE43115A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7FF126-2B81-4303-BDA3-E1D177B2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938C53-1005-41E0-8183-B150C14B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093DBA-7F33-4BB1-892C-6B4B579B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BBAFE8-F93B-4F81-A8C9-B7A8C74F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27D130-FB60-4B45-8E65-A21630D3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B9C8C2-1BFC-491A-91CD-9C265D0D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E37228-69B3-44AB-ADEB-618023D0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D14A-1935-487C-A23F-4391C395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6152-4451-46E6-B58B-5116A204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0646-EA0F-4563-9C32-55E22539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0F75D-3A85-4D66-B974-3475F16E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F40B8-A97C-440E-8D22-04CCCACB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DB5D2-E993-4FAF-8DE2-FE5C8432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9ED9F-B20D-432D-AFE0-6A3F2EEE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C503E-B929-4C9B-80C1-696079A0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D3E7-B0CD-403A-B054-7FEB70A6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3F883-C655-437F-A9B2-ADB820F5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760AB-69EC-44EA-8602-D69A6020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DD629-A69E-48B6-8FFD-CB9D53F2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D8EF9-1CC1-417A-8559-33B7E9CA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C746D-D500-43A7-8DA3-823C0C76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E3131-DD31-42DE-9CD6-F035E9CF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0330F-DEBF-4761-9024-D376E05C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4BF7B-9605-4969-B094-79410DA5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A99DC-3BC2-49E0-BCF3-923EB043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BC129-E6D3-4743-8719-8AF15986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B710-4C69-408C-AC51-24EEE33D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61E49-9988-4062-B4E8-06050ED2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5320A-EE7B-4523-9B63-4CF20334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265D3-35CA-4E73-A6A9-459E3575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8A005-BDF5-45E9-8EA5-30D38401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395A5-38F2-49DF-B6FC-937B1E21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85C05-D3A5-43D4-BEA0-BCB0E6FA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E5394-70AD-4C9E-82F3-7F6FCD65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F40A8-A540-4B17-8A01-A7AF2367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BFAB2-2426-4028-97BA-7B375650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27098-F4BC-4DE6-841A-5AA7408E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A78A-C79F-4D2B-A2E4-03223198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74000-7E5B-4722-8842-D1BC540F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B34D1-969F-4684-9DCE-85301EC2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B77AC-F1F6-4A91-B8A4-FCED25E1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C4735-C7D9-45D9-AA8D-F5E21985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C4107-1D40-4D25-93FA-B2555AEA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DC898-4E66-46B2-978D-2289D303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BA6EE-1138-4785-847F-E8D131A5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E83EF-134B-4C2E-9DDB-72C3067D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1608B-6B52-4283-B340-BDC6CC9C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534BA-98E2-4E08-9C07-0A002C11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6C7-02A5-4D81-95E9-53562028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784C2-A024-4315-B103-55BBE0B2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8C3B0-A9C4-4F46-9E76-1CCE8AF2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E77CF-BF92-469E-B727-A5512807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1F553-44E3-4849-A9C0-CFC995CB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0B3D5-5A88-4E5E-81B5-8A23858A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D9315-DDA2-40BE-B32C-9491B387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21BAF-E6B6-40FD-A9D5-DCE758C7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1D53B-E30B-4515-9936-B4B969F6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82FE3-BA6A-4E15-8FE8-ACC76E83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78B37-DD4E-46FE-AC65-E35F342B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A3BA-9EA9-4666-A47A-5BAB60C4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EE510-DB57-4382-A728-BB9FD62E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E8D36-B55F-4B9A-9BF2-EF90013E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6FA85-5825-4618-94E4-82B3E134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7E816-C5EB-45EE-8CC2-6566C8C8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59BBE-6C5C-4BEE-8B0E-BCAD86FB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4ABF4-0B4C-4623-83A1-C9A79C16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0711D-BFB9-436B-9E45-4FA49FD7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4F567-12B9-4B1C-BFC9-2FB269D3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E2AD5-D3D3-4806-B154-A39C56A7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51F08-9124-4F38-8626-B87A7C5A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C30-2B24-4AA1-96B2-2BE67823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B701D-D24A-4EAD-9BD5-429427D2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BCBD1-94AE-4E00-B651-DADD594C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C37FC-082B-4AC3-BACC-B5B34494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62A75-295E-412B-A17E-79B981DF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494D3-BF48-4B58-8B01-E44C9ABC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E50AF-33E4-45C3-B93C-F0C37848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A243C-26C1-417B-8A62-6A762F79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767C6-15F5-43F6-886F-AD4D0855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16B78-38AA-4625-8BFF-3616AA66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495E9-B99A-4530-9152-0F64E083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360-10AB-40BD-808A-DDEFC832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CA81F-7614-4365-BBF8-1CA99CBA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DFAE9-6495-4C4E-A9EC-25D050DE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99E10-3564-43B1-BBA1-63C7D0D9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67D5B-80DF-46DB-97AA-3D7720B5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3E119-5475-46E1-B39C-501B39A0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689F3-C669-40BF-B4D7-36560750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D1EFF-C7FE-444C-9880-45F29DDA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01E40-E31A-47BF-8370-63EE3911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1F6B0-7F47-4102-BAF3-1B536DA2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0CFA1-AD20-4C87-9CBE-43E76446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193.xml"/><Relationship Id="rId35" Type="http://schemas.openxmlformats.org/officeDocument/2006/relationships/slideLayout" Target="../slideLayouts/slideLayout194.xml"/><Relationship Id="rId36" Type="http://schemas.openxmlformats.org/officeDocument/2006/relationships/slideLayout" Target="../slideLayouts/slideLayout195.xml"/><Relationship Id="rId37" Type="http://schemas.openxmlformats.org/officeDocument/2006/relationships/slideLayout" Target="../slideLayouts/slideLayout196.xml"/><Relationship Id="rId38" Type="http://schemas.openxmlformats.org/officeDocument/2006/relationships/slideLayout" Target="../slideLayouts/slideLayout197.xml"/><Relationship Id="rId39" Type="http://schemas.openxmlformats.org/officeDocument/2006/relationships/slideLayout" Target="../slideLayouts/slideLayout198.xml"/><Relationship Id="rId40" Type="http://schemas.openxmlformats.org/officeDocument/2006/relationships/slideLayout" Target="../slideLayouts/slideLayout199.xml"/><Relationship Id="rId41" Type="http://schemas.openxmlformats.org/officeDocument/2006/relationships/slideLayout" Target="../slideLayouts/slideLayout200.xml"/><Relationship Id="rId42" Type="http://schemas.openxmlformats.org/officeDocument/2006/relationships/slideLayout" Target="../slideLayouts/slideLayout201.xml"/><Relationship Id="rId43" Type="http://schemas.openxmlformats.org/officeDocument/2006/relationships/slideLayout" Target="../slideLayouts/slideLayout202.xml"/><Relationship Id="rId44" Type="http://schemas.openxmlformats.org/officeDocument/2006/relationships/slideLayout" Target="../slideLayouts/slideLayout203.xml"/><Relationship Id="rId4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205.xml"/><Relationship Id="rId32" Type="http://schemas.openxmlformats.org/officeDocument/2006/relationships/slideLayout" Target="../slideLayouts/slideLayout206.xml"/><Relationship Id="rId33" Type="http://schemas.openxmlformats.org/officeDocument/2006/relationships/slideLayout" Target="../slideLayouts/slideLayout207.xml"/><Relationship Id="rId34" Type="http://schemas.openxmlformats.org/officeDocument/2006/relationships/slideLayout" Target="../slideLayouts/slideLayout208.xml"/><Relationship Id="rId35" Type="http://schemas.openxmlformats.org/officeDocument/2006/relationships/slideLayout" Target="../slideLayouts/slideLayout209.xml"/><Relationship Id="rId36" Type="http://schemas.openxmlformats.org/officeDocument/2006/relationships/slideLayout" Target="../slideLayouts/slideLayout210.xml"/><Relationship Id="rId37" Type="http://schemas.openxmlformats.org/officeDocument/2006/relationships/slideLayout" Target="../slideLayouts/slideLayout211.xml"/><Relationship Id="rId38" Type="http://schemas.openxmlformats.org/officeDocument/2006/relationships/slideLayout" Target="../slideLayouts/slideLayout212.xml"/><Relationship Id="rId39" Type="http://schemas.openxmlformats.org/officeDocument/2006/relationships/slideLayout" Target="../slideLayouts/slideLayout213.xml"/><Relationship Id="rId40" Type="http://schemas.openxmlformats.org/officeDocument/2006/relationships/slideLayout" Target="../slideLayouts/slideLayout214.xml"/><Relationship Id="rId41" Type="http://schemas.openxmlformats.org/officeDocument/2006/relationships/slideLayout" Target="../slideLayouts/slideLayout215.xml"/><Relationship Id="rId42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1D8C-DF55-44CD-A258-643AE9C8B6AC}" type="slidenum">
              <a:rPr b="0" lang="fr-FR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24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A787-B7D0-451A-9095-6FBA4068F8E0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6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6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7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7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7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8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grpSp>
              <p:nvGrpSpPr>
                <p:cNvPr id="54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5EE8-1E06-4703-9D89-2E1227E872A4}" type="slidenum"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4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4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4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9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9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9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0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1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1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3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3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3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3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4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4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5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5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6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D5B8-B319-4AEE-B952-A56AAF93E747}" type="slidenum">
              <a:rPr b="0" lang="fr-CA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816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C958-1475-405D-866E-C378C149FCEF}" type="slidenum"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61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dt" idx="4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ftr" idx="4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sldNum" idx="4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BC0A-830F-4D92-8CEB-AE9772FB8E87}" type="slidenum"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05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8ABB-10B9-4677-87C0-55AFC9D2546E}" type="slidenum">
              <a:rPr b="0" lang="fr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8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015" name="PlaceHolder 1"/>
          <p:cNvSpPr>
            <a:spLocks noGrp="1"/>
          </p:cNvSpPr>
          <p:nvPr>
            <p:ph type="dt" idx="4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ftr" idx="4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sldNum" idx="4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3DC8-D2CA-4AC6-BA97-524B0B8DBB13}" type="slidenum">
              <a:rPr b="0" lang="fr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5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105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6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6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6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7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7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8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9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4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5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5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B1AE-AB9B-4442-B3FA-A5047AFF8FDF}" type="slidenum"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4"/>
    <p:sldLayoutId id="2147483858" r:id="rId35"/>
    <p:sldLayoutId id="2147483859" r:id="rId36"/>
    <p:sldLayoutId id="2147483860" r:id="rId37"/>
    <p:sldLayoutId id="2147483861" r:id="rId38"/>
    <p:sldLayoutId id="2147483862" r:id="rId39"/>
    <p:sldLayoutId id="2147483863" r:id="rId40"/>
    <p:sldLayoutId id="2147483864" r:id="rId41"/>
    <p:sldLayoutId id="2147483865" r:id="rId42"/>
    <p:sldLayoutId id="2147483866" r:id="rId43"/>
    <p:sldLayoutId id="2147483867" r:id="rId44"/>
    <p:sldLayoutId id="2147483868" r:id="rId4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15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115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15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15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15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15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96969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6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7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7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9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dt" idx="5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ftr" idx="5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 type="sldNum" idx="5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9B04-BB1F-46B0-94A3-EC17A86D8485}" type="slidenum">
              <a:rPr b="0" lang="fr-CA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1"/>
    <p:sldLayoutId id="2147483871" r:id="rId32"/>
    <p:sldLayoutId id="2147483872" r:id="rId33"/>
    <p:sldLayoutId id="2147483873" r:id="rId34"/>
    <p:sldLayoutId id="2147483874" r:id="rId35"/>
    <p:sldLayoutId id="2147483875" r:id="rId36"/>
    <p:sldLayoutId id="2147483876" r:id="rId37"/>
    <p:sldLayoutId id="2147483877" r:id="rId38"/>
    <p:sldLayoutId id="2147483878" r:id="rId39"/>
    <p:sldLayoutId id="2147483879" r:id="rId40"/>
    <p:sldLayoutId id="2147483880" r:id="rId41"/>
    <p:sldLayoutId id="2147483881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9B6E-D412-490B-9C38-3C22BE4FBB14}" type="slidenum">
              <a:rPr b="0" lang="fr-F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E159-4100-4B1B-8B79-79882611E38D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D903-F3DE-4067-A8C5-9389D5211797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E4DD-9683-49C0-A56A-E706E16CFC59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1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8522-F11B-4318-A7C1-82512FCC7C66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3D56-7E4F-43C6-9E56-CA0D8D2D9C5E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E692-873F-4B65-897E-796932AE035B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80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08F2-901A-4205-813D-66A2942D5817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99eff1"/>
                </a:solidFill>
                <a:latin typeface="Comic Sans MS"/>
              </a:rPr>
              <a:t>LE QUIZ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Arial"/>
              </a:rPr>
              <a:t>Comment faire un quiz avec Powerpoint?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b7e7ff"/>
                </a:solidFill>
                <a:latin typeface="Arial"/>
              </a:rPr>
              <a:t>À quoi peut servir le logiciel Powerpoint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971640" y="2565360"/>
            <a:ext cx="7345440" cy="24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À faire des présentations orales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À jouer à des jeux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À présenter des photographies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Toutes ces réponses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69696"/>
                </a:solidFill>
                <a:latin typeface="Comic Sans MS"/>
              </a:rPr>
              <a:t>A et C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b7"/>
                </a:solidFill>
                <a:latin typeface="Comic Sans MS"/>
              </a:rPr>
              <a:t>RÉPONSE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La bonne réponse est 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Les logiciels de présentation permettent de présenter des documents sous forme de textes, d'images, de vidéos et d'animation à l'aide d'un projecteur.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eec94"/>
                </a:solidFill>
                <a:latin typeface="Comic Sans MS"/>
              </a:rPr>
              <a:t>Comment fait-on pour écrire du texte dans un Powerpoint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On doit ouvrir un logiciel spéc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On doit écrire dans la zone de tex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On peut écrire n’importe o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Toute ces répo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cc"/>
                </a:solidFill>
                <a:latin typeface="Comic Sans MS"/>
              </a:rPr>
              <a:t>Réponse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La réponse est 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Quand tu écris un texte dans Powerpoint, cela doit être faire dans une ¨zone de texte¨. On peut ajouter ou supprimer des zon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omic Sans MS"/>
              </a:rPr>
              <a:t>Quel type d’images peut-on insérer dans Powerpoin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a) Tu peux aller les chercher dans le les images clipar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b) Tu peux aller les chercher dans un des tes fichiers sur ton ordinateu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c) Tu peux en sauvegarder d’Internet et aller les récupér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Comic Sans MS"/>
              </a:rPr>
              <a:t>D) Toutes ces répons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omic Sans MS"/>
              </a:rPr>
              <a:t>Réponse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100" spc="-1" strike="noStrike">
                <a:solidFill>
                  <a:srgbClr val="ffffff"/>
                </a:solidFill>
                <a:latin typeface="Arial"/>
              </a:rPr>
              <a:t>La réponse est 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100" spc="-1" strike="noStrike">
                <a:solidFill>
                  <a:srgbClr val="ffffff"/>
                </a:solidFill>
                <a:latin typeface="Arial"/>
              </a:rPr>
              <a:t>Toute ces réponse sont bonnes. Pour insérer une image, tu cliques sur ¨insertion¨, suite sur image et tu choisis la localisation de ton image. Elle apparaîtra dans ta diapositive et tu pourras la déplacer en cliquant dessus et en bougeant ta souri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dbbd71"/>
                </a:solidFill>
                <a:latin typeface="Arial"/>
              </a:rPr>
              <a:t>Comment sauvegarde-t-on notre travail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Il n’est pas obligatoire de sauvegarder notre trav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Nous devons le sauvegarder régulièr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Il est préférable de sauvegarder, seulement, à la fin de notre trav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7d47d"/>
                </a:solidFill>
                <a:latin typeface="Comic Sans MS"/>
              </a:rPr>
              <a:t>Réponse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f1311"/>
                </a:solidFill>
                <a:latin typeface="Comic Sans MS"/>
              </a:rPr>
              <a:t>La réponse est B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f1311"/>
                </a:solidFill>
                <a:latin typeface="Comic Sans MS"/>
              </a:rPr>
              <a:t>Nous devons sauvegarder notre travail régulièrement. On ne sait jamais quand une panne peut arriver. Vaut mieux être pruden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f1311"/>
                </a:solidFill>
                <a:latin typeface="Comic Sans MS"/>
              </a:rPr>
              <a:t>*Pour sauvegarder nous devons cliquer sur ¨fichier¨, ensuite ¨sauvegarder sous¨, choisir le bon emplacement de sauvegarde et nommez notre fichier. Ensuite, on clique sur ¨OK¨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6:37:34Z</dcterms:created>
  <dc:creator>STI</dc:creator>
  <dc:description/>
  <cp:keywords/>
  <dc:language>en-US</dc:language>
  <cp:lastModifiedBy>STI</cp:lastModifiedBy>
  <dcterms:modified xsi:type="dcterms:W3CDTF">2007-11-19T18:14:21Z</dcterms:modified>
  <cp:revision>7</cp:revision>
  <dc:subject/>
  <dc:title>L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36</vt:lpwstr>
  </property>
</Properties>
</file>